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A68B-C89A-423A-9E13-B907D1E03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90CA-D28B-41CA-89E2-918292D5F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D39B-B781-481E-8F99-2D4BE040A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A2B7-612C-4213-A03D-E6B9C35AF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1998D-FDEB-4FDE-8FDD-F999DEBDA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0755B-BEF5-4225-A15E-CEE75DCA1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2BC8B-764F-4E26-963C-6237B7878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7387F-1D08-46E3-BFD8-570EF3373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FC03A-65D5-40C1-BC39-C0AE8A941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EA83E-F374-4867-9F58-AA4A74CEF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23D4B-33CD-4299-8B60-2B32957F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A7B6-43C9-4653-B679-EB61DB7EE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61149-320E-43D4-AEDE-F68B4374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45298-8CB3-4A49-9521-0D709417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42E76-A36C-40F7-A47E-31CC76C20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12064-53C1-4B8D-AB0E-34AF1B946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B3BC5-DE69-480D-B6ED-DA1C94966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63FF-9390-4CF6-BB33-FA7E06A0B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3F25-4AEA-4AF0-9B1E-A94C0A375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5EBB-331C-4683-969A-B309A3723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ADA7-DD4D-4281-A2E8-737D91A0E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F69E-AEDC-4995-B3D3-8C02767E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EAD6-E6A4-48C5-84E3-1F202008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00A2-D034-48EE-A07C-59EE6A36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7EE82-860E-41B1-809B-8A9DA6DA198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A8B1B-244D-41E5-9529-4FFF3166CFBB}" type="slidenum">
              <a:rPr b="0" lang="en-AU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2131200"/>
            <a:ext cx="746748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ffff"/>
                </a:solidFill>
                <a:latin typeface="Tahoma"/>
              </a:rPr>
              <a:t>Metabolic basis of Muscular Fatigue</a:t>
            </a:r>
            <a:endParaRPr b="0" lang="en-US" sz="60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Metabolite depletion - glycog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2361960"/>
            <a:ext cx="4267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lycogen depletion associated with fatigue during prolonged submaximal exerci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4495680" y="350532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952880" y="1752480"/>
            <a:ext cx="30067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Metabolite depletion - glycog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2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low-twitch fibres become glycogen depleted first, followed by fast-twitc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20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ame pattern occurs during high and low intensity exercise due to Henneman’s size princip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994320" indent="-198720">
              <a:lnSpc>
                <a:spcPct val="200000"/>
              </a:lnSpc>
              <a:spcBef>
                <a:spcPts val="400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Rate of depletion accelerated during high intensity exercis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20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sible to fatigue due to glycogen depletion from specific muscle fibres when glycogen remains in other fibr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994320" indent="-198720">
              <a:lnSpc>
                <a:spcPct val="200000"/>
              </a:lnSpc>
              <a:spcBef>
                <a:spcPts val="400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Lactate shuttle offsets this effec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0">
              <a:lnSpc>
                <a:spcPct val="2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350532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Metabolite depletion - glycog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7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ver releases glucose to offset reduction in muscle glyco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7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n liver and muscle glycogen depleted acetyl CoA formed fr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17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oxid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17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lucose derived from gluconeogene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40040" indent="-207720">
              <a:lnSpc>
                <a:spcPct val="170000"/>
              </a:lnSpc>
              <a:spcBef>
                <a:spcPts val="45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is slows formation of acetyl CoA (and ATP) so fatigue occur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4495680" y="350532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Metabolite accumulation - lactate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-360" y="1828440"/>
            <a:ext cx="5638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lnSpc>
                <a:spcPct val="14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uring moderate-high intensity exercise lactic acid accumulates within the active muscles and bloo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140000"/>
              </a:lnSpc>
              <a:spcBef>
                <a:spcPts val="45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actic acid 99.5% dissociated at physiological p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4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ctic acid accumulation associated with fatigu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140000"/>
              </a:lnSpc>
              <a:spcBef>
                <a:spcPts val="45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actate ion involved in fatigu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14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echanism not know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140000"/>
              </a:lnSpc>
              <a:spcBef>
                <a:spcPts val="45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ion involved in fatigu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14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Number of possible mechanism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350532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791320" y="1905120"/>
            <a:ext cx="30700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Metabolite accumulation - lactate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238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on may contribute to fatigue vi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1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apid depletion of PCr stor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74240" indent="-214560">
              <a:lnSpc>
                <a:spcPct val="180000"/>
              </a:lnSpc>
              <a:spcBef>
                <a:spcPts val="45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ion involved in CK reaction and will displace reaction to favour PCr break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504080" indent="-214560">
              <a:lnSpc>
                <a:spcPct val="18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DP + PCr +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1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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ATP + Cr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1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hibition of PFK (widely accepted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74240" indent="-214560">
              <a:lnSpc>
                <a:spcPct val="180000"/>
              </a:lnSpc>
              <a:spcBef>
                <a:spcPts val="45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shown to inhibit PFK in vitr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504080" indent="-214560">
              <a:lnSpc>
                <a:spcPct val="1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In vivo, increases in AMP, ADP and F 6-P overcome this inhibition so that glycolytic rate is retained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4495680" y="350532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Metabolite accumulation - lactate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5639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4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ion may contribute to fatigue vi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4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splacement of Ca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2+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from binding with troponin 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140000"/>
              </a:lnSpc>
              <a:spcBef>
                <a:spcPts val="400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Failure to form cross-bridges and develop tens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4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timulation of pain receptors within musc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140000"/>
              </a:lnSpc>
              <a:spcBef>
                <a:spcPts val="400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Negative feedback mechanism (protective effect)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4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hibition of triacylglycerol lipase activit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140000"/>
              </a:lnSpc>
              <a:spcBef>
                <a:spcPts val="400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Reduced lipolysis will increase reliance on CHO as fuel, leading to earlier glycogen deplet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4495680" y="350532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943600" y="2438280"/>
            <a:ext cx="2743200" cy="15861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943600" y="4114800"/>
            <a:ext cx="2743200" cy="14828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791320" y="5638680"/>
            <a:ext cx="3047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Adapted from:  Tortora GJ &amp; Grabowski SR.  (2000) Principles of Anatomy and Physiology (9th Ed). New York: Wiley. p27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Metabolite accumulation - lactate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240" y="2057400"/>
            <a:ext cx="3962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40000"/>
              </a:lnSpc>
              <a:spcBef>
                <a:spcPts val="4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Recent evidence suggests that intracellular acidosis may actually protect against fatigue by enhancing the ability of the T-tubule system to carry action potentials to the sarcoplasmic reticulu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140000"/>
              </a:lnSpc>
              <a:spcBef>
                <a:spcPts val="34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K+ accumulation in T-tubules during muscle contraction reduces excitability of T-tubules (due to inactivation of some voltage gated channels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140000"/>
              </a:lnSpc>
              <a:spcBef>
                <a:spcPts val="300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educes ability to carry electrical signals to sarcoplasmic reticulu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3" marL="1519920" indent="-217080">
              <a:lnSpc>
                <a:spcPct val="140000"/>
              </a:lnSpc>
              <a:spcBef>
                <a:spcPts val="2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Reduced release of calcium from SR results in fewer cross-bridges being formed and loss of forc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4495680" y="350532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4495680" y="2438280"/>
            <a:ext cx="4419720" cy="3446280"/>
            <a:chOff x="4495680" y="2438280"/>
            <a:chExt cx="4419720" cy="3446280"/>
          </a:xfrm>
        </p:grpSpPr>
        <p:sp>
          <p:nvSpPr>
            <p:cNvPr id="141" name=""/>
            <p:cNvSpPr/>
            <p:nvPr/>
          </p:nvSpPr>
          <p:spPr>
            <a:xfrm>
              <a:off x="4495680" y="5486040"/>
              <a:ext cx="4419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Adapted from:  Pedersen et al.   Intracellular acidosis enhances the excitability of working muscle.  Science 305:1144-1147, 2004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42" name="" descr=""/>
            <p:cNvPicPr/>
            <p:nvPr/>
          </p:nvPicPr>
          <p:blipFill>
            <a:blip r:embed="rId2"/>
            <a:stretch/>
          </p:blipFill>
          <p:spPr>
            <a:xfrm>
              <a:off x="4495680" y="2438280"/>
              <a:ext cx="4419720" cy="2971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Metabolite accumulation - calcium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4648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6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2+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released from sarcoplasmic reticulum may enter mitochondr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16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reased Ca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2+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in mitochondrial matrix would reduce electrical gradient across inner membra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62720" indent="-212400">
              <a:lnSpc>
                <a:spcPct val="160000"/>
              </a:lnSpc>
              <a:spcBef>
                <a:spcPts val="45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ould reduce H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flow through ATP syntha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487880" indent="-212400">
              <a:lnSpc>
                <a:spcPct val="16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Reduced ATP product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4495680" y="350532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029200" y="2362320"/>
            <a:ext cx="3809880" cy="33526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800600" y="5791320"/>
            <a:ext cx="4343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From: Matthews, CK &amp; van Holde KE (1990) Biochemistry. Redwood City:Benjamin Cummings p.526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Muscular fatigu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2742840"/>
            <a:ext cx="5715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scular fatig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ability to maintain a given exercise intensity or force outpu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Muscular fatigu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00200" y="2285640"/>
            <a:ext cx="60199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5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 one cause of fatig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15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ultifocal phenomen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28520" indent="-205560">
              <a:lnSpc>
                <a:spcPct val="150000"/>
              </a:lnSpc>
              <a:spcBef>
                <a:spcPts val="45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entral and peripheral componen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5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tabolic fatigue results from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15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pletion of key metabolites which facilitate contra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15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ccumulation of metabolites which impair contra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Metabolite depletion - phosphagen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2514240"/>
            <a:ext cx="5257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hosphagen depletion associated with fatigue during short duration high-intensity exerci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715000" y="1676520"/>
            <a:ext cx="2992320" cy="44956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638680" y="6248520"/>
            <a:ext cx="320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Copyright 1997 Associated Press. All rights reserved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Metabolite depletion - phosphagen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79246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mediate source of ATP rephosphorylation is phosphocreatine (PC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reatine kinase functions so rapidly that muscular ATP affected little until PCr significantly deplet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TP and PCr concentrations in resting muscle are low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50000"/>
              </a:lnSpc>
              <a:spcBef>
                <a:spcPts val="45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tilisation must be matched  by restoration otherwise stores rapidly deplete and fatigue occur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Metabolite depletion - phosphagen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5029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4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uring exercise at set work load PCr decreases in two pha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4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apid initial decli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4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lower secondary decli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lnSpc>
                <a:spcPct val="140000"/>
              </a:lnSpc>
              <a:spcBef>
                <a:spcPts val="45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lower due to glycolysis and KC increasing ATP production which rephosphorylates PC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4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oth initial decline and extent of final decrease related to relative exercise intens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81480" y="2057400"/>
            <a:ext cx="3676680" cy="38289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181480" y="5943600"/>
            <a:ext cx="365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Adapted from:  Brooks GA &amp; Fahey TD.  (1985) Exercise Physiology: Human Bioenergetics and its Applications.  New York: MacMillan. p70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Metabolite depletion - phosphagen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2437920"/>
            <a:ext cx="4572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P declines initially during onset of exercise, but well maintained during steady-state exerci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lnSpc>
                <a:spcPct val="180000"/>
              </a:lnSpc>
              <a:spcBef>
                <a:spcPts val="45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TP hydrolysis buffered by PC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5943600"/>
            <a:ext cx="365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Adapted from:  Brooks GA &amp; Fahey TD.  (1985) Exercise Physiology: Human Bioenergetics and its Applications.  New York: MacMillan. p70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800600" y="1828800"/>
            <a:ext cx="411480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Metabolite depletion - phosphagen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4343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2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tigue coincides with PCr deple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09120" indent="-234360">
              <a:lnSpc>
                <a:spcPct val="20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nce PCr stores depleted ATP concentration fall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937080" indent="-187200">
              <a:lnSpc>
                <a:spcPct val="200000"/>
              </a:lnSpc>
              <a:spcBef>
                <a:spcPts val="45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ssociated with fatigue during short duration, high intensity exerci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0912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5105520" y="5867280"/>
            <a:ext cx="365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Adapted from:  Sahlin K.  (1986) Metabolic changes limiting muscle performance.  In: B Saltin (Ed) Biochemistry of Exercise VI.  Champaign: Human Kinetics. p33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105520" y="2438280"/>
            <a:ext cx="3581280" cy="1704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357192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Metabolite depletion - phosphagen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1920" y="2743200"/>
            <a:ext cx="44197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2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mation of ATP from PCr hydrolysis consumes 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20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mportant buffering effect during high intensity exerci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4495680" y="350532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48320" y="380988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P + PCr + 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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TP + C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4T12:18:31Z</dcterms:created>
  <dc:creator>Dr. Jon Buckley</dc:creator>
  <dc:description/>
  <dc:language>en-US</dc:language>
  <cp:lastModifiedBy>bucklejd</cp:lastModifiedBy>
  <dcterms:modified xsi:type="dcterms:W3CDTF">2005-04-08T03:57:49Z</dcterms:modified>
  <cp:revision>375</cp:revision>
  <dc:subject/>
  <dc:title>Protein Structure</dc:title>
</cp:coreProperties>
</file>